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908-B73C-48C6-BD6F-781968AE1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0BB6-6BFD-4586-BF51-A06BF91D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406-20E0-4C98-965D-34BE0904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97FB-AE10-41CB-8FC2-804F47E2A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1902-84BB-4595-829B-02D9AA7F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892-9A17-47FB-A13C-A622F4358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44F-7BE8-417A-81AD-88B0DEC7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580-7A1B-4928-BDEF-090AC97E7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4114-29A3-4E93-8D0D-019B49FD0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8E3E-72EF-4ECA-95FA-D1D2B22D8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F0BD-BCDB-4C95-99EB-5FF25A3A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F2C-FFAB-4849-A85A-E1BED4114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716-B7D1-4148-9834-5F500ED8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E515-5F58-4DD2-AB67-FA91DB85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3A25-6486-4735-97C4-C002BEBB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25FC-CAD4-4443-9035-C528590C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2282-FAF8-4A8C-889A-D50D851B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418-9756-4C9A-9774-A96BB500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46BD-2435-429E-A7DB-781C0B24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41B-0B21-43E2-82DB-1AE6B83C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D76E-299E-4D4A-ABD5-AF7D7F45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3C6-BB7C-4F9C-ADC9-A273D46B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8179-A71B-41D3-BDE5-AEF1A407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64F0-0BD6-4ACC-AFE2-A290039D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BF9E-D1FF-4793-BF83-FC4A94A6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AB67-1BC1-4C2B-8FED-7FC2E140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B28-2031-46B9-BD00-2D67D076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C86-7E58-4C36-9315-2A1D2E8F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C10-5919-4A4F-83BD-2572F7EE1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D852-5887-4F12-9C18-EBD77E16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3616-5122-4E08-8EEF-6FD68FB3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6AD-7D25-4BF0-AC9C-1ABE815D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ABA-C668-4DF8-929B-F1A2B608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2BA-1A87-47B1-8E8C-8E9CBB5D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C59-909F-494F-B2E5-697BDEF5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9BD-C360-4814-8C88-B89A1B898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D9C-F489-4189-B10C-4BF50997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675-F6B0-4F63-B6AF-64679E1F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12B-FA79-4D4E-A0FE-C602FA3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C15-967C-4C4F-B4C6-80E90B41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38D-2B88-4D84-99EE-9C1F47B4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D9A-0365-4302-94D3-E43B1A6E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1B9F-4B15-42F2-B562-F30CC016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352A-E0B5-4D95-801B-72554E31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F2B-ADCD-4BD1-9620-009CB02B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16F-E0F5-425C-B6A5-8C17912D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4464-E99A-49D0-AFCD-45D6C76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4E9F-3576-4481-9869-D61C15CB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FBCF-C09A-4519-BE27-1BA3B1B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348-4126-474B-8B9C-EDD4836A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76DE-B1CE-41A8-BEF0-02A0C0C3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841-2FFF-470F-B5E4-679C566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58AB-031D-4AE9-8615-68E27BB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0C4-094F-41D1-ABFE-290786CC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FCA-53F6-4523-A264-766C71E7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D2F-E32F-4C8E-B798-31D0AC0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8E1-343E-46D8-9E15-A1BAD33C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DC9-4CE3-46DD-8994-F1862EF3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D4F-3231-4C44-8F4A-D8BF6CC7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299-BDC0-4517-B80E-BE53E5A2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85C-EE19-4C55-BF4E-F7F1E22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0EF-3807-474E-8FBE-DC307942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CCA6-C05C-4F6C-A2CB-ABF91064F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B59-0CD5-42E3-BD78-7052DF4BF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Fall Math Center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j0250103"/>
          <p:cNvPicPr/>
          <p:nvPr/>
        </p:nvPicPr>
        <p:blipFill>
          <a:blip r:embed="rId1"/>
          <a:stretch/>
        </p:blipFill>
        <p:spPr>
          <a:xfrm>
            <a:off x="2438280" y="3276720"/>
            <a:ext cx="4191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utty Sorting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to sort—leaves, candy,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n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Prize Pumpkin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which pumpkin has the greate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pumpkins in order, from the pumpkin with the greatest mass to the pumpkin with the lea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 the pumpkins to determine how close your predictio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the mass of each pumpk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j0240581"/>
          <p:cNvPicPr/>
          <p:nvPr/>
        </p:nvPicPr>
        <p:blipFill>
          <a:blip r:embed="rId1"/>
          <a:stretch/>
        </p:blipFill>
        <p:spPr>
          <a:xfrm>
            <a:off x="6934320" y="5122800"/>
            <a:ext cx="17668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ze Pumpkin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s of various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Basket Capacitie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edict which basket has the          greatest capa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ce the containers in order, from the container that will hold the least amount of liquid to the container that will hold the m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nd the capacity of each container to determine how close your predictions w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cord the capacity of each contain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79346"/>
          <p:cNvPicPr/>
          <p:nvPr/>
        </p:nvPicPr>
        <p:blipFill>
          <a:blip r:embed="rId1"/>
          <a:stretch/>
        </p:blipFill>
        <p:spPr>
          <a:xfrm>
            <a:off x="6324480" y="838080"/>
            <a:ext cx="22100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ket Capacitie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s of various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, rice, or beans for 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Jokerman"/>
              </a:rPr>
              <a:t>Measuring Pumpki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the height, width, and circumference of the pumpkin.  Cut a piece of string to match each of your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height, width, and circumference of the pumpkin.  Compare the lengths of your string with the actual measurements of the pump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lose were your estim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j0215161"/>
          <p:cNvPicPr/>
          <p:nvPr/>
        </p:nvPicPr>
        <p:blipFill>
          <a:blip r:embed="rId1"/>
          <a:stretch/>
        </p:blipFill>
        <p:spPr>
          <a:xfrm>
            <a:off x="6553080" y="4753080"/>
            <a:ext cx="2057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asuring Pumpki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tools: rulers, measur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Fall Fraction Activiti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fall items to create fractions.  Record your fractions.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 ½ of the nuts are pe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fractional part of each bag of fall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the Fraction Concentration Game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fractions with the pie pieces.  What equivalent fractions can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j0237680"/>
          <p:cNvPicPr/>
          <p:nvPr/>
        </p:nvPicPr>
        <p:blipFill>
          <a:blip r:embed="rId1"/>
          <a:stretch/>
        </p:blipFill>
        <p:spPr>
          <a:xfrm>
            <a:off x="7238880" y="4267080"/>
            <a:ext cx="169416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ll Fraction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 such as leaves, gour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s of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Pie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anksgiving Fea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your own Thanksgiving F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 grocery store advertisements.  Choose foods that you would like to have at your own Thanksgiving dinner.  Don’t forget dessert!  Calculate the total amount of your dinner and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create a Thanksgiving feast with $100?  How about $5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287403"/>
          <p:cNvPicPr/>
          <p:nvPr/>
        </p:nvPicPr>
        <p:blipFill>
          <a:blip r:embed="rId1"/>
          <a:stretch/>
        </p:blipFill>
        <p:spPr>
          <a:xfrm>
            <a:off x="6095880" y="4800600"/>
            <a:ext cx="2362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Pumpkin Nim</a:t>
            </a:r>
            <a:r>
              <a:rPr b="0" lang="en-US" sz="42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35889"/>
          <p:cNvPicPr/>
          <p:nvPr/>
        </p:nvPicPr>
        <p:blipFill>
          <a:blip r:embed="rId1"/>
          <a:stretch/>
        </p:blipFill>
        <p:spPr>
          <a:xfrm>
            <a:off x="5867280" y="380880"/>
            <a:ext cx="205740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anksgiving Feast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ssive Fea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mass of each food item.  Which food has the greatest 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food items in order, from the food with the greatest mass to the food with the lea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 the items to determine how close your predictions were and peek on the outside of the la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the mass of each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199687"/>
          <p:cNvPicPr/>
          <p:nvPr/>
        </p:nvPicPr>
        <p:blipFill>
          <a:blip r:embed="rId1"/>
          <a:stretch/>
        </p:blipFill>
        <p:spPr>
          <a:xfrm>
            <a:off x="6858000" y="5257800"/>
            <a:ext cx="2057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ssive Feas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giving food items with the mass covered on th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asonal Symmet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rt the fall pictures into groups.             1 – Has line symmetry                               2 – Not symmetrical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raw or use the pattern blocks to create two designs -- one to fit each categor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0280635"/>
          <p:cNvPicPr/>
          <p:nvPr/>
        </p:nvPicPr>
        <p:blipFill>
          <a:blip r:embed="rId1"/>
          <a:stretch/>
        </p:blipFill>
        <p:spPr>
          <a:xfrm>
            <a:off x="3733920" y="4927680"/>
            <a:ext cx="2133360" cy="1704960"/>
          </a:xfrm>
          <a:prstGeom prst="rect">
            <a:avLst/>
          </a:prstGeom>
          <a:ln w="0">
            <a:noFill/>
          </a:ln>
        </p:spPr>
      </p:pic>
      <p:sp>
        <p:nvSpPr>
          <p:cNvPr id="159" name="Line 5"/>
          <p:cNvSpPr/>
          <p:nvPr/>
        </p:nvSpPr>
        <p:spPr>
          <a:xfrm>
            <a:off x="4800600" y="4876920"/>
            <a:ext cx="0" cy="1981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sonal Symmetry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 and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aterials—crayons, marker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bulous Fall 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carecrow using only polygons.  Record the name of     each polygon used in your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fall picture using pattern blocks.  Trace and color the design on construction paper.  Find the total fractional amount of your design (Hexagon = 1) and record at the bottom of your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j0285614"/>
          <p:cNvPicPr/>
          <p:nvPr/>
        </p:nvPicPr>
        <p:blipFill>
          <a:blip r:embed="rId1"/>
          <a:stretch/>
        </p:blipFill>
        <p:spPr>
          <a:xfrm>
            <a:off x="6858000" y="228600"/>
            <a:ext cx="1984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bulous Fall Ar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hapes prec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r glue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eafy Gr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layer should select 5 fall pictures and place them on their coordinate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calling-out ordered pairs.  If a player names the correct location of a fall item, it is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inner is the first player to locate all 5 of their partner’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j0250169"/>
          <p:cNvPicPr/>
          <p:nvPr/>
        </p:nvPicPr>
        <p:blipFill>
          <a:blip r:embed="rId1"/>
          <a:stretch/>
        </p:blipFill>
        <p:spPr>
          <a:xfrm>
            <a:off x="6553080" y="5254560"/>
            <a:ext cx="259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fy Grid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grids—paper, cookie sheets, box lids,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—attached with magnets, velcro, tape, or drawn on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urkey T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graph to displa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eights of the tur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ree question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your data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0335895"/>
          <p:cNvPicPr/>
          <p:nvPr/>
        </p:nvPicPr>
        <p:blipFill>
          <a:blip r:embed="rId1"/>
          <a:stretch/>
        </p:blipFill>
        <p:spPr>
          <a:xfrm>
            <a:off x="152280" y="1523880"/>
            <a:ext cx="28958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pple Ni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apple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space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344872"/>
          <p:cNvPicPr/>
          <p:nvPr/>
        </p:nvPicPr>
        <p:blipFill>
          <a:blip r:embed="rId1"/>
          <a:stretch/>
        </p:blipFill>
        <p:spPr>
          <a:xfrm>
            <a:off x="5562720" y="304920"/>
            <a:ext cx="16221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rkey Time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outs of turkeys—one weight written on each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d plai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s, markers, and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Yummy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holiday reci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ecipe to ser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2517650000[1]"/>
          <p:cNvPicPr/>
          <p:nvPr/>
        </p:nvPicPr>
        <p:blipFill>
          <a:blip r:embed="rId1"/>
          <a:stretch/>
        </p:blipFill>
        <p:spPr>
          <a:xfrm>
            <a:off x="4191120" y="3511440"/>
            <a:ext cx="35049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ant Pumpkin Pie Recip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andwich bag, crush 3 graham crackers.  Add 2 tsp. of sugar and ¾ tbsp. of soft margarine.  Mix together and spread in container.  Mix 1 tbsp. instant vanilla pudding and ¼ tsp. pumpkin pie spice.  Add 3 tsp. canned pumpkin and 1/3 cup of milk.  Mix well and pour into “pie shell.”  Refrigerate for 1 hour before serving.  Top with whipped t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ummy Mathematic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giving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e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Kristen ITC"/>
              </a:rPr>
              <a:t>Fabulous Fall Ideas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cribe additional ideas you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your math class to engag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ivate your students dur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ll sea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j0232601"/>
          <p:cNvPicPr/>
          <p:nvPr/>
        </p:nvPicPr>
        <p:blipFill>
          <a:blip r:embed="rId1"/>
          <a:stretch/>
        </p:blipFill>
        <p:spPr>
          <a:xfrm>
            <a:off x="4572000" y="3809880"/>
            <a:ext cx="31240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utumn Equ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rt through the fall cut-outs to find number sentences that are equal.  Record each eq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j0287401"/>
          <p:cNvPicPr/>
          <p:nvPr/>
        </p:nvPicPr>
        <p:blipFill>
          <a:blip r:embed="rId1"/>
          <a:stretch/>
        </p:blipFill>
        <p:spPr>
          <a:xfrm>
            <a:off x="6095880" y="3657600"/>
            <a:ext cx="25257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umn Equality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—one number sentence written o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uzzling Pumpki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one pumpkin.  Solve the function table and find the missing numbers. Decide what change is happening and figure out the rule of the function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your solutions.  Complete at least 4 pumpkins before changing ce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j0344884"/>
          <p:cNvPicPr/>
          <p:nvPr/>
        </p:nvPicPr>
        <p:blipFill>
          <a:blip r:embed="rId1"/>
          <a:stretch/>
        </p:blipFill>
        <p:spPr>
          <a:xfrm>
            <a:off x="5943600" y="5181480"/>
            <a:ext cx="220968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600200"/>
          <a:ext cx="1905120" cy="4267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1600200"/>
          <a:ext cx="1905120" cy="4267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m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uzzling Pumpki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cut-outs with function tables o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Kristen ITC"/>
              </a:rPr>
              <a:t>Sweet Pictograph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ra returned from trick-or-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ating with lots of candy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Sara sort her cand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pictograph to disp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32048"/>
          <p:cNvPicPr/>
          <p:nvPr/>
        </p:nvPicPr>
        <p:blipFill>
          <a:blip r:embed="rId1"/>
          <a:stretch/>
        </p:blipFill>
        <p:spPr>
          <a:xfrm>
            <a:off x="457200" y="2362320"/>
            <a:ext cx="1971720" cy="24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85598"/>
          <p:cNvPicPr/>
          <p:nvPr/>
        </p:nvPicPr>
        <p:blipFill>
          <a:blip r:embed="rId2"/>
          <a:stretch/>
        </p:blipFill>
        <p:spPr>
          <a:xfrm>
            <a:off x="7086600" y="76212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weet Pictograph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 of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spering 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the assortment of objects, create a variety of different patterns.  Record your patterns on the paper provided.  What is the rule of your pattern?  Can you create an equation to fit your patte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j0335906"/>
          <p:cNvPicPr/>
          <p:nvPr/>
        </p:nvPicPr>
        <p:blipFill>
          <a:blip r:embed="rId1"/>
          <a:stretch/>
        </p:blipFill>
        <p:spPr>
          <a:xfrm>
            <a:off x="5410080" y="4114800"/>
            <a:ext cx="236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spering Patter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bjects such as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strips/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Nutty Sorting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objects into groups based on one common attrib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r partner guess the attribute you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objects by two attributes and have your partner guess the attributes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j0215520"/>
          <p:cNvPicPr/>
          <p:nvPr/>
        </p:nvPicPr>
        <p:blipFill>
          <a:blip r:embed="rId1"/>
          <a:stretch/>
        </p:blipFill>
        <p:spPr>
          <a:xfrm>
            <a:off x="7086600" y="457200"/>
            <a:ext cx="1828800" cy="1230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j0215369"/>
          <p:cNvPicPr/>
          <p:nvPr/>
        </p:nvPicPr>
        <p:blipFill>
          <a:blip r:embed="rId2"/>
          <a:stretch/>
        </p:blipFill>
        <p:spPr>
          <a:xfrm>
            <a:off x="228600" y="5845320"/>
            <a:ext cx="1295280" cy="101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j0215364"/>
          <p:cNvPicPr/>
          <p:nvPr/>
        </p:nvPicPr>
        <p:blipFill>
          <a:blip r:embed="rId3"/>
          <a:stretch/>
        </p:blipFill>
        <p:spPr>
          <a:xfrm>
            <a:off x="7391520" y="5638680"/>
            <a:ext cx="14475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floyd</cp:lastModifiedBy>
  <dcterms:modified xsi:type="dcterms:W3CDTF">2012-10-01T18:25:08Z</dcterms:modified>
  <cp:revision>20</cp:revision>
  <dc:subject/>
  <dc:title>Slide 1</dc:title>
</cp:coreProperties>
</file>